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B9B33-9778-4DF5-8141-79E038942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-k[Zn][HCl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-1.08)(3M)(8M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-207.36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reaction is a+b+… This tells you which reactant is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arge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F0BD8-1D7F-493F-AD24-601542EA5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, of course, when something matters in chemistry, there is some kind of mathematical formula invol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by nature positive.  But since the amount of reactant is decreasing, we make it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1B2AF-0F46-453B-9BD6-B81871114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continue this on and on depending on the number of react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, we don’t care about product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62412-7D07-4442-B727-87F0568FC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actions of this type, you will be given information to solve for concentration, k, or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A6691-A5C2-4863-9C46-49203868E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hen talking about rate of reaction, the products do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matter unless the reaction is reversible (more on that l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how the coefficients become the superscrip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4C16D-4BE5-4CC5-B0EE-E28ABC6AF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6D5-3967-40AE-B67D-2C8A6876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0FC-8B16-4509-89E3-30A041D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16F-5C60-4DF4-B7D2-D92B5180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577-812B-4416-9AA9-4165B061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F26-42AE-41D8-98E0-A793B94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8D9-928B-4276-BA5D-F3B8E6F7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EAF-C8E7-4E25-8B4D-3053E85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6B8-A0D3-4C65-96BB-921C482E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EFB-F50F-41FD-B57D-576F0EF1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9BA-F95D-41D4-90A4-357F3FB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65A-86C4-4D32-BE12-F7EF918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095-BC27-4B5C-9988-1B25DB3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471BF-75A3-406A-B53F-4D54491E7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 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82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Rat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289480" y="6284880"/>
            <a:ext cx="38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d by Rebekah Marchil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Learning Center for the De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57040" y="65102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57040" y="19368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www.bcscience.com/bc10/images/0_quiz-6.2-05.jpg"/>
          <p:cNvPicPr/>
          <p:nvPr/>
        </p:nvPicPr>
        <p:blipFill>
          <a:blip r:embed="rId1"/>
          <a:stretch/>
        </p:blipFill>
        <p:spPr>
          <a:xfrm>
            <a:off x="2589120" y="3894120"/>
            <a:ext cx="4286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ntration of zinc metal is 3M, the concentration of HCl is 8M.  k for this reaction is 1.08.  What is the rate of rea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2HCl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0" y="181080"/>
            <a:ext cx="899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For a particular reaction at constant temperatur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g) + 2B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[A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of examples ;-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13525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reaction =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ge in concentratio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time required for chang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85392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0.048 moles of magnesium (Mg) completely reacts with acid in 20 sec, what would be the rate of reaction in units of mole per seco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.048 mo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0001 mol/se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0 se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: It was found that 7.0 g of zinc metal reacted completely with acid in 30 sec.  Calculate the average rate of this rea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237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reaction for a single compound decompos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+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k[A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] = concentration of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rate const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8128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suppose 2 molecules collide to form a new product.  The rate formula chang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-k[A][B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0" y="328680"/>
            <a:ext cx="914400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+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-k[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2746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verall Rate of Reaction Formul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 + bB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-k[A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6:04:48Z</dcterms:created>
  <dc:creator>Staff</dc:creator>
  <dc:description/>
  <dc:language>en-US</dc:language>
  <cp:lastModifiedBy>Staff</cp:lastModifiedBy>
  <dcterms:modified xsi:type="dcterms:W3CDTF">2014-04-09T17:24:59Z</dcterms:modified>
  <cp:revision>7</cp:revision>
  <dc:subject/>
  <dc:title>Reaction Kinetics</dc:title>
</cp:coreProperties>
</file>